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44C-EFAE-4F84-938A-B9AECDCC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2B8-5981-41D2-B994-2445F6B2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A66-4FE6-47A4-B64A-C23D26A7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E6F-7414-48AA-92F8-629E0320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8B0-F64B-4D05-87E8-C010989E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24D-D373-479F-A5BB-BB1154C1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610-11F3-4B01-887C-A7FFE103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94C-B499-4997-BCF7-D5FC8D5D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A31-2807-4AC6-9F1E-91F574D6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FCB-3098-4A79-AC39-11F695D8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EF6-413D-408A-A347-5E4ACC5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507-7A3B-45E7-9879-15C30C4E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2D6B-95BC-4491-9814-15B06970A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.uk/imgres?imgurl=http://www.blogspan.org/images/blogs/spitzer-slide-2006.jpg&amp;imgrefurl=http://www.blogspan.org/blogs/archives/Astronomy-blog/June-15-2006.html&amp;h=275&amp;w=480&amp;sz=20&amp;hl=en&amp;start=1&amp;tbnid=RiJSwaEXFXSjgM:&amp;tbnh=74&amp;tbnw=129&amp;prev=/images%3Fq%3Dinfrared%2Bimages%2Bof%2Bthe%2Buniverse%26svnum%3D10%26hl%3Den%26lr%3D%26sa%3D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.uk/imgres?imgurl=http://www.godandscience.org/images/messier81ngc3031ugc5318infrared.jpg&amp;imgrefurl=http://www.godandscience.org/galaxycards.html&amp;h=320&amp;w=480&amp;sz=34&amp;hl=en&amp;start=3&amp;tbnid=WRzz3aIT6q3hfM:&amp;tbnh=86&amp;tbnw=129&amp;prev=/images%3Fq%3Dinfrared%2Bimages%2Bof%2Bthe%2Buniverse%26svnum%3D10%26hl%3Den%26lr%3D%26sa%3DG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mages.google.co.uk/imgres?imgurl=http://htxs.gsfc.nasa.gov/images/resources/brochures/may04/xray_spectroscopy/pic2b_crab_ir_tn.jpg&amp;imgrefurl=http://htxs.gsfc.nasa.gov/resources/brochures/may04/xray_spectroscopy.html&amp;h=225&amp;w=225&amp;sz=68&amp;hl=en&amp;start=57&amp;tbnid=xM30-XqCOW9w2M:&amp;tbnh=108&amp;tbnw=108&amp;prev=/images%3Fq%3Dinfrared%2Bimages%2Bof%2Bthe%2Buniverse%26start%3D40%26ndsp%3D20%26svnum%3D10%26hl%3Den%26lr%3D%26sa%3DN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txs.gsfc.nasa.gov/images/resources/brochures/may04/xray_spectroscopy/pic2b_crab_ir_lg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htxs.gsfc.nasa.gov/images/resources/brochures/may04/xray_spectroscopy/pic2a_crab_radio_lg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red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2041560" cy="2041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2879640" cy="186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519280" cy="1516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4360" y="3284640"/>
            <a:ext cx="2735280" cy="1401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010040" y="3100320"/>
            <a:ext cx="35146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87964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0360" y="981000"/>
            <a:ext cx="2098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1844640"/>
            <a:ext cx="2630520" cy="1509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653000"/>
            <a:ext cx="237636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177336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The Crab nebula as observed in infrared l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500280"/>
            <a:ext cx="2592720" cy="2592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The Crab nebula as observed in X-ray light"/>
          <p:cNvPicPr/>
          <p:nvPr/>
        </p:nvPicPr>
        <p:blipFill>
          <a:blip r:embed="rId3"/>
          <a:stretch/>
        </p:blipFill>
        <p:spPr>
          <a:xfrm>
            <a:off x="2700360" y="350028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he Crab nebula as observed in optical light"/>
          <p:cNvPicPr/>
          <p:nvPr/>
        </p:nvPicPr>
        <p:blipFill>
          <a:blip r:embed="rId4"/>
          <a:stretch/>
        </p:blipFill>
        <p:spPr>
          <a:xfrm>
            <a:off x="2700360" y="26028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The Crab nebula as observed in radio ligh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26028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372360" y="2997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61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red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9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ble light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16360" y="6237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-1332360" y="2997360"/>
            <a:ext cx="5543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The Crab Supernov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3:51:40Z</dcterms:created>
  <dc:creator>stblackj</dc:creator>
  <dc:description/>
  <dc:language>en-US</dc:language>
  <cp:lastModifiedBy>stblackj</cp:lastModifiedBy>
  <dcterms:modified xsi:type="dcterms:W3CDTF">2006-11-27T16:35:00Z</dcterms:modified>
  <cp:revision>2</cp:revision>
  <dc:subject/>
  <dc:title>Infrared images</dc:title>
</cp:coreProperties>
</file>